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95621"/>
        <c:axId val="93698544"/>
      </c:barChart>
      <c:catAx>
        <c:axId val="37995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8544"/>
        <c:crosses val="autoZero"/>
        <c:auto val="1"/>
        <c:lblAlgn val="ctr"/>
        <c:lblOffset val="100"/>
        <c:noMultiLvlLbl val="0"/>
      </c:catAx>
      <c:valAx>
        <c:axId val="93698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95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0FD-222F-4B4C-B46C-3B250201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899-3DF0-4F7F-B9FD-0A8B6BB2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0B8-65B8-403F-BA49-8982EFFF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B4D-9B80-42A3-8662-E90773A7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675-2A0C-4306-A6BC-3B824D03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238-BC23-494D-80DB-AED933E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DF9-23C2-4E83-91B7-7A6E8E7F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A66-B2E8-43A7-B4D4-0809AF13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52C-7848-42D3-B627-DFDB5D37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22B-6DC2-4800-A767-EC5B712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523-C47A-4BBA-8D5A-387B639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6F0-0330-47E7-B754-8C5FEE5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09836-F153-4C59-AD22-E1CAEDA3CB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