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63032"/>
        <c:axId val="90013349"/>
      </c:barChart>
      <c:catAx>
        <c:axId val="20763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13349"/>
        <c:crosses val="autoZero"/>
        <c:auto val="1"/>
        <c:lblAlgn val="ctr"/>
        <c:lblOffset val="100"/>
        <c:noMultiLvlLbl val="0"/>
      </c:catAx>
      <c:valAx>
        <c:axId val="90013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63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487-284D-45AD-BA97-1B753A1F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136-B398-4384-BAB1-24F5D968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511-DE8A-49D9-B7FF-F7DDF3C6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4EA-4593-4C36-B652-EE6AD1DA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13B-66B9-4201-8AD0-9A48FA48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970-EB67-40EF-9ABA-D50E31F1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753-4D5C-4980-886E-25E81D37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8C9-58EC-440A-B9BE-77DC4E77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70E-ED1F-47A4-9E17-E20BD159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BC2-B251-4F84-860C-0BD011DB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620-4379-4F08-A2DC-DC5753D2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B21B-37F1-4F1C-82F9-A0A676F2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25DD8-02F0-4AEC-9D2E-48A8375B50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