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44232"/>
        <c:axId val="39173752"/>
      </c:barChart>
      <c:catAx>
        <c:axId val="91644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73752"/>
        <c:crosses val="autoZero"/>
        <c:auto val="1"/>
        <c:lblAlgn val="ctr"/>
        <c:lblOffset val="100"/>
        <c:noMultiLvlLbl val="0"/>
      </c:catAx>
      <c:valAx>
        <c:axId val="39173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44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D15-7547-4309-A5B1-04F2AF6F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FE6-F100-4B07-9229-164DBB9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5F4-F7CA-4DA6-83A4-508C0073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212-A672-4A1C-8F11-9C3F3207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239-8904-4464-9591-07F5B9D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F0C-3D43-4D13-982B-EEA6BB54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A63-A15D-406F-B41B-56F29026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82C-B4D8-4D84-8D1F-EE44C297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270-D883-4BD6-BAE5-21FA71EF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6E2-57C5-4A03-90CA-6ABCC08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B7E-3180-4B53-8F79-6735F65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156-D7D0-4859-BC25-B245F65C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82C68-F93C-428C-A22A-F0673AC49F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