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87105"/>
        <c:axId val="63631399"/>
      </c:barChart>
      <c:catAx>
        <c:axId val="89487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31399"/>
        <c:crosses val="autoZero"/>
        <c:auto val="1"/>
        <c:lblAlgn val="ctr"/>
        <c:lblOffset val="100"/>
        <c:noMultiLvlLbl val="0"/>
      </c:catAx>
      <c:valAx>
        <c:axId val="63631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87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5BE-D619-4EBD-8260-FCB4DB4C4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4E4-C184-4964-B71B-7B522C1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5FA1-FC84-4405-9DDB-881FEA22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B6E8-69BE-43A6-A0D2-BF0235D5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0D15-1E1D-4379-9ED7-C12F729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DACB-7903-45F6-96B3-19A8A14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586-C116-4F49-8BCF-ECC17B84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14D-2350-4743-A411-E1390417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42B-049B-4D9D-AEC7-1B2E2A7B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811-B5B8-4475-B38A-D5A3CE28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0AD-B322-4239-A073-572A5577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CDE-73E0-4F70-9BF4-35EFCD0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D979A-A6EB-4232-9FC3-F1F7883BE43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