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3664"/>
        <c:axId val="78661723"/>
      </c:barChart>
      <c:catAx>
        <c:axId val="1213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61723"/>
        <c:crosses val="autoZero"/>
        <c:auto val="1"/>
        <c:lblAlgn val="ctr"/>
        <c:lblOffset val="100"/>
        <c:noMultiLvlLbl val="0"/>
      </c:catAx>
      <c:valAx>
        <c:axId val="78661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3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46B-6AE5-4D41-BA99-5DD28556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367-17BC-4C83-8D86-1A708E1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273-4357-4046-AF42-109D529E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671-5AB0-4955-894B-F13BEE7A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829-2387-4D9E-B0A6-A1814C5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686-BC9F-46B7-93FA-AC77EE5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114-A587-46D1-8324-B8B7CD3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326-7BD2-4117-94C0-900BCD01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33D-988D-464B-90D1-20D3735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43B-84E9-433C-AE8B-38D4BE8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0B3-7071-49DA-8A69-7C01788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4E6-B2BA-40B8-96C7-EE17586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D867E-13ED-4326-9DD6-0A029A9750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