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39179"/>
        <c:axId val="32841528"/>
      </c:barChart>
      <c:catAx>
        <c:axId val="92039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841528"/>
        <c:crosses val="autoZero"/>
        <c:auto val="1"/>
        <c:lblAlgn val="ctr"/>
        <c:lblOffset val="100"/>
        <c:noMultiLvlLbl val="0"/>
      </c:catAx>
      <c:valAx>
        <c:axId val="32841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39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690-EAD8-4BF2-95FD-02E55123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12E-4676-4787-8080-B69505A3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1BB-F667-4677-9B5C-70DB58AC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6753-AB74-4B48-B61D-15CB2DA2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FFE-80B2-4A1D-A7AE-EC80B89E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2C9F-C30F-4DE7-84A7-BB8B5633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F05-62FA-4D86-A7E5-A38C8D9B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D170-FE48-40F2-91E6-B88FE628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17A-0F6A-4950-9768-C333317E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AD7-E61A-4562-B872-CD87C822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F460-B5F5-448F-B053-E8108E77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F5D4-6ACA-4BFB-A255-ACA99B1D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F4D72-AE6C-4201-A188-A2B130D46C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