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75701"/>
        <c:axId val="35498982"/>
      </c:barChart>
      <c:catAx>
        <c:axId val="144757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98982"/>
        <c:crosses val="autoZero"/>
        <c:auto val="1"/>
        <c:lblAlgn val="ctr"/>
        <c:lblOffset val="100"/>
        <c:noMultiLvlLbl val="0"/>
      </c:catAx>
      <c:valAx>
        <c:axId val="35498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57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704-F94F-49C2-8CFF-615E8405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C2B-EECC-427A-B888-761A42D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7A2-9A6C-494B-BBC9-F619E06A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85F-7A51-4873-B008-44687FA7A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43D-83F2-47B4-9F76-90F740C6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CC1-5E7C-443A-BB0E-8B1B972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F42-4E11-4617-9F36-D14AF5CE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0C8-CA31-45C7-98EE-2CC0EFBB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721-078E-4178-98D3-3AA2B10B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846-4342-4729-8070-E5E4A2D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778-D866-4E02-8EB3-2D34E97B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0EB-BF2E-4D1E-A7F3-8C76A694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FDFB7-30CE-43CB-A040-F9AA7FABD2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