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23797"/>
        <c:axId val="47718365"/>
      </c:barChart>
      <c:catAx>
        <c:axId val="71623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18365"/>
        <c:crosses val="autoZero"/>
        <c:auto val="1"/>
        <c:lblAlgn val="ctr"/>
        <c:lblOffset val="100"/>
        <c:noMultiLvlLbl val="0"/>
      </c:catAx>
      <c:valAx>
        <c:axId val="47718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23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E2E-CDA5-494C-81C0-0E4780A9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DF8-BACA-4F66-962F-BE2CC9E6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519-2618-470B-8EC4-094CBAA1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2E6-54E2-454D-ABC2-B84318D8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B16-0509-42E1-880D-86AB7DCA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D72-262C-464C-8C19-69503D61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33B-22E1-40AD-B14B-C6F9FAA1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394-59F2-41B8-8C64-DC06455A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FCF-AD0F-434D-95C9-E0335E4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4EE-33B2-4DC2-B3F1-F27C7A19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5AD-1B09-45E6-A445-8DC9CBA9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F3C-9F50-4C85-8C97-4EFE690C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61CD1-47CF-41A7-AA8D-44ACC7F15C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