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40352"/>
        <c:axId val="76388633"/>
      </c:barChart>
      <c:catAx>
        <c:axId val="21740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88633"/>
        <c:crosses val="autoZero"/>
        <c:auto val="1"/>
        <c:lblAlgn val="ctr"/>
        <c:lblOffset val="100"/>
        <c:noMultiLvlLbl val="0"/>
      </c:catAx>
      <c:valAx>
        <c:axId val="76388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40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03C-5B8F-4F0A-A713-47908CF7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232-673E-4B50-8C17-792FFDB8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B7A-504C-4805-A015-02728995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9F1-98BC-4966-ACAF-39CEA970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626-68A6-49DA-B649-416A0E73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C31-6673-40CD-ACFC-68864E3F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08F-B814-4800-8E10-D45D266F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776-1625-46A9-9634-EFA0CAB3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102-EED8-4765-8C7A-C9C57438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BBC5-8590-4F58-85E9-E069F853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B36-23DE-4F52-AA69-7FFA4A20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7DB-8BB1-4C37-B699-C4F3C14D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BA31E-074B-4363-B881-388BB4D6CB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