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73349"/>
        <c:axId val="63197008"/>
      </c:barChart>
      <c:catAx>
        <c:axId val="18773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97008"/>
        <c:crosses val="autoZero"/>
        <c:auto val="1"/>
        <c:lblAlgn val="ctr"/>
        <c:lblOffset val="100"/>
        <c:noMultiLvlLbl val="0"/>
      </c:catAx>
      <c:valAx>
        <c:axId val="63197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73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807-5875-48D6-B1D4-986F01B5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534-BD99-492E-90F0-182DF170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6AF-7022-4371-831C-B4EA967C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487-A4C1-4C6B-B760-6EC73EF7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055-9691-4007-B6F4-570FD7ED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DF6-BACE-45EF-87FD-05A2ED8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8C7-6355-46FF-B27D-DAF6AF04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E1A-B1BD-4C24-8808-4FB448E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E59-2DF2-47CD-A904-008AF866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059-36A9-4FC0-A907-D48A6E32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80F-14BA-4264-BB64-74002B4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D27-FC1B-45E1-AA4A-CEA11CE4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8B86E-EFAD-49CB-8C7B-B54794EF24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