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959462"/>
        <c:axId val="20940854"/>
      </c:barChart>
      <c:catAx>
        <c:axId val="539594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940854"/>
        <c:crosses val="autoZero"/>
        <c:auto val="1"/>
        <c:lblAlgn val="ctr"/>
        <c:lblOffset val="100"/>
        <c:noMultiLvlLbl val="0"/>
      </c:catAx>
      <c:valAx>
        <c:axId val="209408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9594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F12C-8A16-47B8-A938-EFE4E3997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73D0-96C8-44FA-83E9-3BD13D59D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D7FA-1AC7-4B76-B010-584702814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C1CF-96ED-4098-B842-AEC8EBB1D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0FF5-63C4-4775-8C86-7A84DD563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8673-A8C0-4DF6-87AF-8FED32DBF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DA54-DEAE-47AD-A318-FF18496CB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0F7D-2E86-499C-93FC-ACF93B24A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8F2D-5034-4F86-B018-CACB03F42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6927-FABD-4E72-A619-BA86FD035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2040-1AAF-4ED9-8A8F-C00F72C35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0912-57B2-492D-923D-6C95AE395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9CA455-DF77-42D4-AF45-5458AE76D05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