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25584"/>
        <c:axId val="61022806"/>
      </c:barChart>
      <c:catAx>
        <c:axId val="60525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22806"/>
        <c:crosses val="autoZero"/>
        <c:auto val="1"/>
        <c:lblAlgn val="ctr"/>
        <c:lblOffset val="100"/>
        <c:noMultiLvlLbl val="0"/>
      </c:catAx>
      <c:valAx>
        <c:axId val="61022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25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585-F4BA-4D8F-A2AE-72A0CE4B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3CB-CE65-443B-9AD8-A5534E8D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858-D2D1-4BF0-81A4-2A25E708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1DC-4D09-419A-80CE-85722456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4CE-D7FA-484B-A70F-15F5E094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26A-A020-4005-8CB8-A1028DB3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C95-BC50-42E5-851A-31860516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DA6-3FC1-4314-BC1B-D87B3D17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1E4-ACFD-4334-87A4-AA78DE7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4FF-30F6-432C-A8B4-C1180E3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E03-AA3D-4FDC-8302-DF58CB1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49A-D30C-43CC-8551-C919AF2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01BC8-46E0-4CC6-9577-A0ADCD512B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