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603430"/>
        <c:axId val="28345602"/>
      </c:barChart>
      <c:catAx>
        <c:axId val="31603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45602"/>
        <c:crosses val="autoZero"/>
        <c:auto val="1"/>
        <c:lblAlgn val="ctr"/>
        <c:lblOffset val="100"/>
        <c:noMultiLvlLbl val="0"/>
      </c:catAx>
      <c:valAx>
        <c:axId val="28345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603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4BB-1B30-49C3-9C88-339E61B9A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9B6-E1E8-412A-9F51-65D55928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DB7-8946-489D-8F33-CCE6674B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6A5E-A66E-4BF5-B786-EE6A47420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031-34C3-438B-9A2A-547C0A0A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8B6E-1FB7-4678-9EFA-B5716B2D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3793-FAF5-4811-B526-28A8453A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824-6D51-49FB-9F71-472F085C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25DA-6F03-4E6B-A348-F3BD6F2E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866A-57E4-4B3B-B95E-802C3A9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101D-2487-410D-9C91-29C01871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BD1-20A8-4974-9578-9E6DA250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65BF2-07F1-4BA3-82E4-2AA8B6E8AD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