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02102"/>
        <c:axId val="3317094"/>
      </c:barChart>
      <c:catAx>
        <c:axId val="582021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7094"/>
        <c:crosses val="autoZero"/>
        <c:auto val="1"/>
        <c:lblAlgn val="ctr"/>
        <c:lblOffset val="100"/>
        <c:noMultiLvlLbl val="0"/>
      </c:catAx>
      <c:valAx>
        <c:axId val="3317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021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6F0-B321-496A-8D2B-4EF49ED4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AB8-1646-4D21-B979-6DDE8035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D55-57D1-4B23-A0F7-D97100A9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ED7-7A1D-41E2-B4EF-CDB11C68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338-D13C-46D5-B2CF-CB868B26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38C-BEE2-44FD-ACC9-30410F2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B4E-4B8D-4321-969E-1E13734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71B-C1E4-40AA-86C2-2CB1B814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C4F-8268-41CB-B990-2E1E50FF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68C-0971-44DF-8EE6-46215E2C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BFAC-7594-4031-9A88-2DE19223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729-E624-4B07-B0B7-BC751152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5203E-3919-456F-98ED-16450322CA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