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509969"/>
        <c:axId val="46554672"/>
      </c:barChart>
      <c:catAx>
        <c:axId val="815099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54672"/>
        <c:crosses val="autoZero"/>
        <c:auto val="1"/>
        <c:lblAlgn val="ctr"/>
        <c:lblOffset val="100"/>
        <c:noMultiLvlLbl val="0"/>
      </c:catAx>
      <c:valAx>
        <c:axId val="465546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099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8E35-82E9-4019-9978-D591399A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1B2B-881E-4225-A11C-4F33908D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3E17-9F00-47D0-9743-5573295C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33E1-E15E-4CBC-AFA8-2E1F0EDA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64ED-A620-41A2-BEAE-B76D3887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53D2-0057-4262-9C2B-706F5C73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1E58-E0D2-454A-9222-32B09116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6934-BD1C-47EC-9485-31B52807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0B1E-1978-45AD-9346-F63ABE29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F639-AA26-40E2-931C-359628B5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A688-F870-46E1-A126-05A698A9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24B-6879-4771-AE04-DD970099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F621A-3BCE-404E-8F1A-F40D2C52CB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