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6254014"/>
        <c:axId val="11191641"/>
      </c:barChart>
      <c:catAx>
        <c:axId val="3625401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191641"/>
        <c:crosses val="autoZero"/>
        <c:auto val="1"/>
        <c:lblAlgn val="ctr"/>
        <c:lblOffset val="100"/>
        <c:noMultiLvlLbl val="0"/>
      </c:catAx>
      <c:valAx>
        <c:axId val="1119164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25401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87FC-62DC-4F6F-99C8-ACF79AF1E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36AD-C2B0-4AB2-9C59-10208BB1D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BA1E-6344-445A-8CAB-48EDC14B7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EAEB-A04D-443B-8ED2-C29414B99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7886-5165-46BE-8B88-53BAC3A24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4391-CC5E-49C4-B1DB-873622C66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4943-EDD9-4198-9A84-1B5EE729E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D189-8583-449D-8566-39BD2FA7D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00C8-D29D-4778-89A7-98271A2FD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33C7-80C5-4149-87C2-FB1B4D5F6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9CBB-1A26-403B-9912-4CC0C0103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5D72-C655-4E6F-90B9-35E342633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8B01D5-293D-4605-BE3A-63E7A158CD0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