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03908"/>
        <c:axId val="61062549"/>
      </c:barChart>
      <c:catAx>
        <c:axId val="84203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62549"/>
        <c:crosses val="autoZero"/>
        <c:auto val="1"/>
        <c:lblAlgn val="ctr"/>
        <c:lblOffset val="100"/>
        <c:noMultiLvlLbl val="0"/>
      </c:catAx>
      <c:valAx>
        <c:axId val="61062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03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BA7-49E9-4B36-9AF5-A018F5FF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8A2-4C23-42C5-89CA-FD702F04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A27-8274-4CAE-B971-40BF65F4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FF1-DC1B-4675-8F78-C9EDBA34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823-BA26-4DE6-A972-102A97FC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865-79A3-4A7C-9281-E3BDD247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9D1-6A9C-4FB3-828A-145E3CA9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0E4-50FC-4AB9-95D7-EA622250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88D-05D0-4BC5-B7D0-7B5101AB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B28-4395-41BF-B427-33079BB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6C9-BAE0-42D3-830E-3A6D7D2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1AC-585E-4B86-A685-38FA9B6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11D79-8BE0-42E3-805E-FE5D42A59D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