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370531"/>
        <c:axId val="82687994"/>
      </c:barChart>
      <c:catAx>
        <c:axId val="413705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87994"/>
        <c:crosses val="autoZero"/>
        <c:auto val="1"/>
        <c:lblAlgn val="ctr"/>
        <c:lblOffset val="100"/>
        <c:noMultiLvlLbl val="0"/>
      </c:catAx>
      <c:valAx>
        <c:axId val="826879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705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B673-5FB7-4A76-BB32-F2B846E6F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16F4-FF97-424B-B4E2-2B965F33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8294-E35D-4913-A833-0C8641087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4F0B-F602-4CA1-933A-C92D9F0AF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BDDE-C95E-4CF9-9043-F4176DCC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75F6-6548-43E8-80E9-10114F9F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0BEB-507F-473E-887A-FA50D6BF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157F-FE92-426B-8EF0-9A71EA25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C9CF-72E4-44A2-85EE-3291B26C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AA89-B9FE-4CB9-9711-0C422F5E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3EA6-3F88-426C-B860-2A9DD009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6AF2-57EE-485F-BDD5-D438CD33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19691-6B3A-4878-A228-A64F90F99D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