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24792"/>
        <c:axId val="1192829"/>
      </c:barChart>
      <c:catAx>
        <c:axId val="19724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829"/>
        <c:crosses val="autoZero"/>
        <c:auto val="1"/>
        <c:lblAlgn val="ctr"/>
        <c:lblOffset val="100"/>
        <c:noMultiLvlLbl val="0"/>
      </c:catAx>
      <c:valAx>
        <c:axId val="1192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24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1E1-9A46-4EF3-A2B7-CC5120C9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170-40B7-46CC-B1AA-EA63519F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DED-018D-4AE3-A819-CC8F37CD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AC0-1A4D-4E3D-9285-3DF03818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210-EFD7-471D-886A-0304C19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F88-3BA3-444F-AC3F-FEB1B0E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E62-6D0D-47A4-92E0-A40EBACF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9C8-47E1-448A-B095-4B46010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DB2-B2F9-49C6-9A95-264B685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159-33C7-4549-9E4C-B980E21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CE4-74B4-4E8E-85B1-3AF8D90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6F2-BB94-44D6-BE47-3C21CA0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FD5EC-9D56-4E7B-95D9-FD5795DD4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