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842426"/>
        <c:axId val="8384269"/>
      </c:barChart>
      <c:catAx>
        <c:axId val="768424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4269"/>
        <c:crosses val="autoZero"/>
        <c:auto val="1"/>
        <c:lblAlgn val="ctr"/>
        <c:lblOffset val="100"/>
        <c:noMultiLvlLbl val="0"/>
      </c:catAx>
      <c:valAx>
        <c:axId val="83842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424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BE0C-582B-45E6-933E-A2C3BF6E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62E3-17C3-4F1B-97B2-8382AE34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A308-CDD9-4BA2-A207-B69AF5FBC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5728-D19C-4385-8BFD-1CBA07211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A874-642F-401C-AA28-8C5D0B9F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CC81-C0CF-4A47-BBC9-85E7A042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F64D-9F93-48EA-8365-3334366C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B223-71DB-4CC3-AD4C-F8EB85D4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3C3B-72C6-4E0D-AC11-F41CEA77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8550-09FE-42DA-8AAA-B843DA56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B658-BB2D-468A-BC5E-128B95DB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7EDF-617B-4717-A1DC-1BB4CEB9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E8184-9505-4FDA-8464-58B340BF94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