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236430"/>
        <c:axId val="91569920"/>
      </c:barChart>
      <c:catAx>
        <c:axId val="152364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569920"/>
        <c:crosses val="autoZero"/>
        <c:auto val="1"/>
        <c:lblAlgn val="ctr"/>
        <c:lblOffset val="100"/>
        <c:noMultiLvlLbl val="0"/>
      </c:catAx>
      <c:valAx>
        <c:axId val="915699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2364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9EEB-5237-4E0E-B962-AD44C8007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F5E1-76AB-4D4F-9249-63E649C5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7B76-22BB-4FBD-BD07-197869B98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EB1E-53D9-46EE-AC1D-995B28588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57C3-B118-48FE-ABD5-45A8A7EE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C279-5F8E-4A0B-AD4E-C8F269CC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A11D-B09F-411F-878F-E3767DF0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C34C-ADE4-43B0-A08A-3B741F5A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3B8B-E714-4983-B823-66D214A4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03B0-F11A-405F-84C1-1EACFBCC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2DAB-290D-40BF-89C7-B0E8D7FE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C3C5-C4DD-4D03-B134-7EEEDEC2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C6CA04-B313-4E08-BEEB-E26136FC7E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