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6647161"/>
        <c:axId val="74346976"/>
      </c:barChart>
      <c:catAx>
        <c:axId val="5664716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346976"/>
        <c:crosses val="autoZero"/>
        <c:auto val="1"/>
        <c:lblAlgn val="ctr"/>
        <c:lblOffset val="100"/>
        <c:noMultiLvlLbl val="0"/>
      </c:catAx>
      <c:valAx>
        <c:axId val="7434697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64716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C0B29-B5DE-4279-BF87-7782943A3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D08B6-A1D0-4C5A-B375-3A27BD47A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83F1E-547D-42A1-B7EE-1D38BE4EA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D2C30-E6C9-4C24-B15E-74688F876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EDDFF-1239-44D6-B029-9FDBBB163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16CD9-1891-401B-B9A8-2551CDCDF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0388A-684A-460A-B198-40D90AE77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893EF-F510-49BD-9922-5022555EA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60D0D-0E5B-4AE0-95AD-066A43C6A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23B8D-4009-4E41-8915-0DA42EF90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ADD10-C8E0-435D-AAF7-1AFCDBFB5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A32C2-FB60-4E00-9D2E-4DE71DDB9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DE5EC2-709A-4301-B562-5A8D95AF49C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