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56079"/>
        <c:axId val="79612098"/>
      </c:barChart>
      <c:catAx>
        <c:axId val="47356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12098"/>
        <c:crosses val="autoZero"/>
        <c:auto val="1"/>
        <c:lblAlgn val="ctr"/>
        <c:lblOffset val="100"/>
        <c:noMultiLvlLbl val="0"/>
      </c:catAx>
      <c:valAx>
        <c:axId val="79612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56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AA6-49AB-4221-8A98-C3BF99AC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6FE-3DFD-413C-96CD-E1429A10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386-A13B-4278-A72B-7B16EE2B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9AD-7BA2-4E8C-98A4-02B0DD21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B5A-C02F-497B-8EEF-F60F5BC6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4E5-CB19-4FA6-9EE8-E3DC3BC6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6C0-73F7-4D22-A4E2-47E86686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B16-455B-4615-9D62-6265AFD7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B57-DEBA-461A-915A-F756B30F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AD7-3F7B-4436-88D6-89627825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8DC-E9C6-4347-AAA6-ED916C1D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299-74A8-412D-B454-A79D0E8F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C4C08-2910-4EE2-A13F-13F90F6B60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