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99712"/>
        <c:axId val="10980509"/>
      </c:barChart>
      <c:catAx>
        <c:axId val="747997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80509"/>
        <c:crosses val="autoZero"/>
        <c:auto val="1"/>
        <c:lblAlgn val="ctr"/>
        <c:lblOffset val="100"/>
        <c:noMultiLvlLbl val="0"/>
      </c:catAx>
      <c:valAx>
        <c:axId val="10980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997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485-7CD8-461B-A80B-13AD7879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132-827F-4A0E-8C9C-EEDE0A4A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6AD-A8C0-4914-8252-6BBFC809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330-BC2F-463D-979B-5998E927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BED-358B-4EE7-B2FC-3CA1CA05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312-E8D8-4C26-A88F-CDB1973D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D87-A3BD-4722-BB5F-DB0BA3F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C0C-CE82-4302-8AF5-372A1571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4E6-47A7-4E06-9DA7-9F3AB5D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361-B112-4D01-AEAE-A5BC7B67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8D2-3B5E-4AC9-A3EF-E12FF54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39C-FE15-4261-A1C3-8942723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442D0-7F7C-4D56-B22D-02F516F883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