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54155"/>
        <c:axId val="1274691"/>
      </c:barChart>
      <c:catAx>
        <c:axId val="12354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4691"/>
        <c:crosses val="autoZero"/>
        <c:auto val="1"/>
        <c:lblAlgn val="ctr"/>
        <c:lblOffset val="100"/>
        <c:noMultiLvlLbl val="0"/>
      </c:catAx>
      <c:valAx>
        <c:axId val="1274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54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40A-A6B4-4084-954C-F4D84CDA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6C8-F5CC-4CC4-94BB-F8B6318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FFA-3AFC-4B17-A8B6-8FC17FC4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8D1-7C35-4E90-BF4A-7738D8A8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819-0749-4871-823D-2534498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A8A-D904-49EC-B84E-A221D8E7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D11-8B7D-4BA8-92F6-6CE11930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253-F900-4C30-A6F5-C6013D9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47A-BB6E-4EE4-9FAA-46B2342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3E7-AC67-43D4-9E7A-F94E59E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10D-1139-4432-A090-259BFD4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5EE-091D-40B9-8CC8-735EA20C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1D0D7-7FD9-4660-A0E9-72B16ADE3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