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386820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36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44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40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4600" y="228240"/>
            <a:ext cx="6627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736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9120" y="386820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736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400" y="159984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0912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44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400" y="3868200"/>
            <a:ext cx="257508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4600" y="228240"/>
            <a:ext cx="6627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360" y="386820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360" y="1599840"/>
            <a:ext cx="390276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68200"/>
            <a:ext cx="79981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228240"/>
            <a:ext cx="662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228240"/>
            <a:ext cx="662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35120" y="685440"/>
            <a:ext cx="435132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103360" y="4724280"/>
            <a:ext cx="3583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21960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981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8:08:25Z</dcterms:created>
  <dc:creator>aisaak</dc:creator>
  <dc:description/>
  <dc:language>en-US</dc:language>
  <cp:lastModifiedBy>pmladek</cp:lastModifiedBy>
  <dcterms:modified xsi:type="dcterms:W3CDTF">2013-05-13T14:53:57Z</dcterms:modified>
  <cp:revision>9</cp:revision>
  <dc:subject/>
  <dc:title>PowerPoint Presentation</dc:title>
</cp:coreProperties>
</file>