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5936"/>
        <c:axId val="45828580"/>
      </c:barChart>
      <c:catAx>
        <c:axId val="6845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28580"/>
        <c:crosses val="autoZero"/>
        <c:auto val="1"/>
        <c:lblAlgn val="ctr"/>
        <c:lblOffset val="100"/>
        <c:noMultiLvlLbl val="0"/>
      </c:catAx>
      <c:valAx>
        <c:axId val="458285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5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6D2F-CBAA-4DB3-902B-0D1EC3DC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6D4-B9E3-4A8C-900C-C4830575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E4B2-6205-4275-92A4-D67C8021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7DA-E58B-4834-A424-102959BE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DFF-2F05-4A39-9115-21BC1994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4B2-C498-46F9-AB56-986BE7E9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82D-3102-49DF-BC50-AE16D74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B62-5958-498C-AF7E-95F36423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63E-BE77-4BB1-8A8C-E6A2B446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FFBB-208F-4B14-8DE4-C0D5975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219-D8B8-43D8-BCA7-D9478BAB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58E-10F0-4219-93F6-B0878155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7FE87-9029-4717-931C-F08D04E65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