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6401"/>
        <c:axId val="61252344"/>
      </c:barChart>
      <c:catAx>
        <c:axId val="916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52344"/>
        <c:crosses val="autoZero"/>
        <c:auto val="1"/>
        <c:lblAlgn val="ctr"/>
        <c:lblOffset val="100"/>
        <c:noMultiLvlLbl val="0"/>
      </c:catAx>
      <c:valAx>
        <c:axId val="612523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EAFE-BAB4-4018-8507-AC6795C7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31B-2A96-48AA-9E63-D0F45F75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B07-74CE-4F0C-9B30-029F3FE6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D7C9-8F6B-4E1E-B888-3F018147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A250-ADCF-48F6-B6BA-E9C2D11C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6E1E-9E18-406B-97FA-D82D21A1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6FF3-74F5-45B2-AC5F-9A61F953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A602-A2C3-4948-8E67-76566618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D11C-7577-4519-B09C-5C0C25E8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3F34-265C-4D2C-B7FA-FD83E83B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87B1-22AC-453E-8F9E-81AD6B25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35F-D236-4BB2-9CD0-18E7BC1B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AC1C7-314D-4214-A3CA-96A1DE52A0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